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0248-7755-4FD8-A4FC-E6E35780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427A-B075-4546-95F9-07B6663F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F29-5BE9-4941-B9DD-CFD49AF7D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E9CD-373D-43AF-B86D-13691F7DD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A298F-7049-4F88-9523-6B6AD8E15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02BA6-2536-41D7-BBD1-D2B4DF4D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525624-8D7F-4550-B0A2-A0DF33ED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46455-7F88-4A21-BC46-643002F0E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60BB1B-D695-42CF-A241-522A05748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B5F6AE-5154-41CB-B1E0-F29E40C0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D8591-355A-461F-A266-09D28CA5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998E-040C-44D0-A1CD-58CC75FCE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E2224-33A4-49AE-AB44-A9A33842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40625-BAEF-4347-AF74-AE979E2E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881E5-01D8-4789-BB7A-863C53ED3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96C614-A3C3-410C-AFEA-7D93C16C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FB73E2-6DEE-4D4F-99E5-58CCB7BA5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5895C-A17D-47E7-A3EC-E43A46DC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DE4B8F-9831-4050-8F05-6C63C62F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D33BD-FE27-4634-B131-0B6D21F88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73B60-556D-42D0-9D38-892B7EC6B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A4CC42-D15A-4C45-A604-AC0601E7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5B16-F692-4601-88BA-6FA5E965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7C690-28A9-4237-A368-23D757ADC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1BF01-0914-4047-BF8F-E0A05D5A3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CBDAD-F0AA-4CA5-A4BD-043645D6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5C25B-3680-4BDC-B46B-FED02A4B5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1A475-1B05-45AD-ABD5-9677FEFEC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53CE5-B997-473B-A0C5-027AB5F0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FE4EB-31A7-4773-B493-207A2BD3C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BAE5BC-376B-49AC-9FBA-6900A3225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03D289-E49A-40A6-BE66-CC877AAD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42E72-C551-4BED-8981-51C21716D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DA0B-FF18-411A-99E4-DC16E74C8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125005-1C0C-4D24-9EC0-5E1AD8C5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42A143-87D1-4F4C-A75B-93B9C902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149813-087F-4731-9E81-2460A269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488171-73E7-4DB6-907A-1A8E926F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0DC55-93B2-435C-ACF6-059091F0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3CDBCE-EA08-4DFC-9A8A-66DB054E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7E7CA-6788-4AEC-A457-70EF2795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C4A2A-4926-485E-B882-1EACA9B77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9A32F8-503A-402D-8847-CA904BB0F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6D9A-6E57-4875-9B66-35D84E21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21A8-F0D6-4C5D-8E27-66500D5F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8154-3D97-405E-B9B6-557F854E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313-B512-489E-B47E-06545C8D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AC7E-146E-4451-B287-BFDF3AB8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1F15-0FFE-48E5-A503-F6761A861BF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54124-320F-4BA8-A2EB-8316032B3F1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A1F1-4BDA-4BD1-A12E-41296302E6C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D9B7B-E0D0-4532-A195-DC1839721AC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lifestreamcenter.net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efac9"/>
                </a:solidFill>
                <a:latin typeface="Constantia"/>
              </a:rPr>
              <a:t>Carolyn Odom Burle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755640" y="2279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lifestreamcenter.ne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e has been an educator since 196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e has taught adult classes and creative writing workshop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aima Pradh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rackling of the fire,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aroma of the cookies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excitement of the tre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it is surrounded by the pres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 cheerful children and the spirit of the holida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ongs play a jolly tune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the wind dances with the snow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night will come to an end soo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t the memories will never fade.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016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43000" y="533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: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ima Pradh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666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bliography: http://www.lifestreamcenter.net/whispers/index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Vibrations from the warm sun ray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trickle of the fountain spray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beauty of the skyward tree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ool refreshing summer breez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olor of the roses re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 airplane flying overhea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ound of crickets in the groun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cactus set upon the moun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hirping of the many bird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conversations overhear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pigeon perched upon a rock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Just flew away to find his flock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oror sitting next to m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With pen and paper on her kne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fratre working on his pla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family come to spend the da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fingers of the great palm leave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at sway and dance upon the breez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Egyptian columns standing tall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hieroglyphics on the wall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phinx, he sits majesticall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Guarding the universit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COSMIC LOVE pervades the air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OOOM, I feel it everywhere!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1026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 of Poem: O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yle of verse: Rhyming ver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800" spc="-1" strike="noStrike">
                <a:solidFill>
                  <a:srgbClr val="ffffff"/>
                </a:solidFill>
                <a:latin typeface="Constantia"/>
              </a:rPr>
              <a:t>trochee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Vibrations from the warm sun ray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trickle of the fountain spray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beauty of the skyward tre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cool refreshing summer breez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28"/>
          <p:cNvGrpSpPr/>
          <p:nvPr/>
        </p:nvGrpSpPr>
        <p:grpSpPr>
          <a:xfrm>
            <a:off x="2819520" y="1600200"/>
            <a:ext cx="3429000" cy="558720"/>
            <a:chOff x="2819520" y="1600200"/>
            <a:chExt cx="3429000" cy="558720"/>
          </a:xfrm>
        </p:grpSpPr>
        <p:grpSp>
          <p:nvGrpSpPr>
            <p:cNvPr id="180" name="Group 26"/>
            <p:cNvGrpSpPr/>
            <p:nvPr/>
          </p:nvGrpSpPr>
          <p:grpSpPr>
            <a:xfrm>
              <a:off x="2824200" y="1604880"/>
              <a:ext cx="3419640" cy="549360"/>
              <a:chOff x="2824200" y="1604880"/>
              <a:chExt cx="3419640" cy="549360"/>
            </a:xfrm>
          </p:grpSpPr>
          <p:grpSp>
            <p:nvGrpSpPr>
              <p:cNvPr id="181" name="Group 15"/>
              <p:cNvGrpSpPr/>
              <p:nvPr/>
            </p:nvGrpSpPr>
            <p:grpSpPr>
              <a:xfrm>
                <a:off x="2824200" y="1604880"/>
                <a:ext cx="1192320" cy="274680"/>
                <a:chOff x="2824200" y="1604880"/>
                <a:chExt cx="1192320" cy="274680"/>
              </a:xfrm>
            </p:grpSpPr>
            <p:sp>
              <p:nvSpPr>
                <p:cNvPr id="182" name="Rectangle 8"/>
                <p:cNvSpPr/>
                <p:nvPr/>
              </p:nvSpPr>
              <p:spPr>
                <a:xfrm>
                  <a:off x="2824200" y="160488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anapest (~~/ 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4"/>
                <p:cNvSpPr/>
                <p:nvPr/>
              </p:nvSpPr>
              <p:spPr>
                <a:xfrm>
                  <a:off x="2824200" y="160488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17"/>
              <p:cNvGrpSpPr/>
              <p:nvPr/>
            </p:nvGrpSpPr>
            <p:grpSpPr>
              <a:xfrm>
                <a:off x="4016520" y="1604880"/>
                <a:ext cx="1158840" cy="274680"/>
                <a:chOff x="4016520" y="1604880"/>
                <a:chExt cx="1158840" cy="274680"/>
              </a:xfrm>
            </p:grpSpPr>
            <p:sp>
              <p:nvSpPr>
                <p:cNvPr id="185" name="Rectangle 9"/>
                <p:cNvSpPr/>
                <p:nvPr/>
              </p:nvSpPr>
              <p:spPr>
                <a:xfrm>
                  <a:off x="4016520" y="160488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iamb ( ~/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6"/>
                <p:cNvSpPr/>
                <p:nvPr/>
              </p:nvSpPr>
              <p:spPr>
                <a:xfrm>
                  <a:off x="4016520" y="160488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19"/>
              <p:cNvGrpSpPr/>
              <p:nvPr/>
            </p:nvGrpSpPr>
            <p:grpSpPr>
              <a:xfrm>
                <a:off x="5175360" y="1604880"/>
                <a:ext cx="1068480" cy="274680"/>
                <a:chOff x="5175360" y="1604880"/>
                <a:chExt cx="1068480" cy="274680"/>
              </a:xfrm>
            </p:grpSpPr>
            <p:sp>
              <p:nvSpPr>
                <p:cNvPr id="188" name="Rectangle 10"/>
                <p:cNvSpPr/>
                <p:nvPr/>
              </p:nvSpPr>
              <p:spPr>
                <a:xfrm>
                  <a:off x="5175360" y="160488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spondee (//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8"/>
                <p:cNvSpPr/>
                <p:nvPr/>
              </p:nvSpPr>
              <p:spPr>
                <a:xfrm>
                  <a:off x="5175360" y="160488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21"/>
              <p:cNvGrpSpPr/>
              <p:nvPr/>
            </p:nvGrpSpPr>
            <p:grpSpPr>
              <a:xfrm>
                <a:off x="2824200" y="1879560"/>
                <a:ext cx="1192320" cy="274680"/>
                <a:chOff x="2824200" y="1879560"/>
                <a:chExt cx="1192320" cy="274680"/>
              </a:xfrm>
            </p:grpSpPr>
            <p:sp>
              <p:nvSpPr>
                <p:cNvPr id="191" name="Rectangle 11"/>
                <p:cNvSpPr/>
                <p:nvPr/>
              </p:nvSpPr>
              <p:spPr>
                <a:xfrm>
                  <a:off x="2824200" y="187956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dactyl ( /~~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20"/>
                <p:cNvSpPr/>
                <p:nvPr/>
              </p:nvSpPr>
              <p:spPr>
                <a:xfrm>
                  <a:off x="2824200" y="187956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23"/>
              <p:cNvGrpSpPr/>
              <p:nvPr/>
            </p:nvGrpSpPr>
            <p:grpSpPr>
              <a:xfrm>
                <a:off x="4016520" y="1879560"/>
                <a:ext cx="1158840" cy="274680"/>
                <a:chOff x="4016520" y="1879560"/>
                <a:chExt cx="1158840" cy="274680"/>
              </a:xfrm>
            </p:grpSpPr>
            <p:sp>
              <p:nvSpPr>
                <p:cNvPr id="194" name="Rectangle 12"/>
                <p:cNvSpPr/>
                <p:nvPr/>
              </p:nvSpPr>
              <p:spPr>
                <a:xfrm>
                  <a:off x="4016520" y="187956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trochee ( /~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22"/>
                <p:cNvSpPr/>
                <p:nvPr/>
              </p:nvSpPr>
              <p:spPr>
                <a:xfrm>
                  <a:off x="4016520" y="187956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25"/>
              <p:cNvGrpSpPr/>
              <p:nvPr/>
            </p:nvGrpSpPr>
            <p:grpSpPr>
              <a:xfrm>
                <a:off x="5175360" y="1879560"/>
                <a:ext cx="1068480" cy="274680"/>
                <a:chOff x="5175360" y="1879560"/>
                <a:chExt cx="1068480" cy="274680"/>
              </a:xfrm>
            </p:grpSpPr>
            <p:sp>
              <p:nvSpPr>
                <p:cNvPr id="197" name="Rectangle 13"/>
                <p:cNvSpPr/>
                <p:nvPr/>
              </p:nvSpPr>
              <p:spPr>
                <a:xfrm>
                  <a:off x="5175360" y="187956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24"/>
                <p:cNvSpPr/>
                <p:nvPr/>
              </p:nvSpPr>
              <p:spPr>
                <a:xfrm>
                  <a:off x="5175360" y="187956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Rectangle 27"/>
            <p:cNvSpPr/>
            <p:nvPr/>
          </p:nvSpPr>
          <p:spPr>
            <a:xfrm>
              <a:off x="2819520" y="1600200"/>
              <a:ext cx="3429000" cy="55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tourist attr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osicrucian Park, an Egyptian muesum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The fingers of the great palm leave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That sway and dance upon the bree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Seems very happy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4181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taphor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The trickle of the fountain spray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That sway and dance upon the breez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title is the location.  The poem explains the mood at the attraction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poem describes the feeling at the museum.  It talks about the environment and what can be seen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5:51:51Z</dcterms:created>
  <dc:creator>Lincoln High School</dc:creator>
  <dc:description/>
  <dc:language>en-US</dc:language>
  <cp:lastModifiedBy>Owner</cp:lastModifiedBy>
  <dcterms:modified xsi:type="dcterms:W3CDTF">2010-02-23T01:09:21Z</dcterms:modified>
  <cp:revision>16</cp:revision>
  <dc:subject/>
  <dc:title>Title of Poem</dc:title>
</cp:coreProperties>
</file>