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D57-223D-486F-B936-77843156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99C-5991-4CE4-9538-B3488E4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CFE-F9ED-479D-9016-4EF1127B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45E-92B4-46C0-A6AD-A29728CD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1E00B-4BF2-47AC-BF09-5A2BF232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0B1C6-D0FA-432F-BF97-D4C790BE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3D40B-89BC-4924-A097-DD0B1F0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DC76E-3779-46AE-8B7A-378B6DCA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B87C7-835E-40E5-BF12-6CE43897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05717-0FA3-4778-A6C0-F63E25C1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55EF0-3AE5-4BE5-9037-7D3CD1E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86E-CD59-457D-BFA3-C1D2F4A7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11F23-B02E-443C-BB4F-C08A9EF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939BF-3D80-4850-9463-029C9EE0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E4F30-9E5D-4958-B1C1-A2F4224C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1132D-FCC3-4582-ABC8-E220F866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211AF-77A7-44D2-9252-1B64925C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4380-E8F8-42FB-9823-A055F8D4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B458-E8A0-45AF-A845-002F23BB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2C4D-D39B-4451-BA61-1C9D71FE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839A-AD7A-4138-8F9A-3225D2FB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8BBA-855C-46CB-AFAD-8851B24D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1EE-C3D5-419D-8A17-9B3EA162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BDE5-C6BE-4945-BE1E-70FD6A93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C7F9-C5BB-46EC-B4C8-9792943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0BC6-2B95-4810-87A3-E16A2D7F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41B0-5E0E-4214-AF1C-F54605C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2433-C7A2-4D60-B7BC-3308FB7B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B1F9-976F-44C3-B8FC-D4627682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5D7E-CE5B-40F6-BC06-6A0E6062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25192-00CE-4CF6-90C7-9A7CBC83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1FDA2-E310-4AE5-B4E3-EB451441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B87D3-65FF-4F02-A8EA-4CD0BF42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E85-C201-42C2-BD63-A8BF9678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A6825E-D685-4501-913C-A59878DB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FB81F-465D-4262-A927-442EB805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636D1-D276-456E-BE93-EC178A8B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DDE23-23C1-439D-B6E1-386D5D67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7C821-4B73-434B-9FFE-8D1BF0A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DF957-B68B-4405-A70E-763F27B5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1CE58-F43B-45E8-84B2-48243914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250CC-376D-4330-AC14-FDC695CD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351A1-ECE6-42A5-90FA-654BE920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672-14AE-4A86-BE1A-12133176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A39-0EEB-402D-9D2B-586DF0F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B5A-89B1-4ABA-BF29-2D6157E6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BF4-5D3D-41B7-9C40-88E9087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314-7BF6-434E-A438-77041F5F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2A63-9CA5-44A3-AE77-8FB0AF2603D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164E-8B5C-4788-9B92-E82CA63B5BC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014-D4AD-4299-8670-D82E422A3D5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0835-7BA7-43DB-B519-09FC9A06810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lifestreamcenter.net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efac9"/>
                </a:solidFill>
                <a:latin typeface="Constantia"/>
              </a:rPr>
              <a:t>Carolyn Odom Burle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75564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lifestreamcenter.ne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been an educator since 196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taught adult classes and creative writing workshop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aima Pradh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rackling of the fire,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aroma of the cookie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excitement of the tre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it is surrounded by the pres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 cheerful children and the spirit of the holida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ongs play a jolly tune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the wind dances with the snow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night will come to an end so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the memories will never fade.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01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43000" y="533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ima Prad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bliography: http://www.lifestreamcenter.net/whispers/index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lor of the roses re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 airplane flying overhea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und of crickets in the gr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cactus set upon the m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hirping of the many bird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nversations overhear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pigeon perched upon a r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Just flew away to find his fl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ror sitting next to m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With pen and paper on her kne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ratre working on his pl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amily come to spend the d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Egyptian columns standing t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hieroglyphics on the w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phinx, he sits majesticall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Guarding the universit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SMIC LOVE pervades the air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OOOM, I feel it everywhere!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1026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 of Poem: O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le of verse: Rhyming ver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800" spc="-1" strike="noStrike">
                <a:solidFill>
                  <a:srgbClr val="ffffff"/>
                </a:solidFill>
                <a:latin typeface="Constantia"/>
              </a:rPr>
              <a:t>trochee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28"/>
          <p:cNvGrpSpPr/>
          <p:nvPr/>
        </p:nvGrpSpPr>
        <p:grpSpPr>
          <a:xfrm>
            <a:off x="2819520" y="1600200"/>
            <a:ext cx="3429000" cy="558720"/>
            <a:chOff x="2819520" y="1600200"/>
            <a:chExt cx="3429000" cy="558720"/>
          </a:xfrm>
        </p:grpSpPr>
        <p:grpSp>
          <p:nvGrpSpPr>
            <p:cNvPr id="180" name="Group 26"/>
            <p:cNvGrpSpPr/>
            <p:nvPr/>
          </p:nvGrpSpPr>
          <p:grpSpPr>
            <a:xfrm>
              <a:off x="2824200" y="1604880"/>
              <a:ext cx="3419640" cy="549360"/>
              <a:chOff x="2824200" y="1604880"/>
              <a:chExt cx="3419640" cy="54936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824200" y="1604880"/>
                <a:ext cx="1192320" cy="274680"/>
                <a:chOff x="2824200" y="1604880"/>
                <a:chExt cx="1192320" cy="274680"/>
              </a:xfrm>
            </p:grpSpPr>
            <p:sp>
              <p:nvSpPr>
                <p:cNvPr id="182" name="Rectangle 8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4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17"/>
              <p:cNvGrpSpPr/>
              <p:nvPr/>
            </p:nvGrpSpPr>
            <p:grpSpPr>
              <a:xfrm>
                <a:off x="4016520" y="1604880"/>
                <a:ext cx="1158840" cy="274680"/>
                <a:chOff x="4016520" y="1604880"/>
                <a:chExt cx="1158840" cy="274680"/>
              </a:xfrm>
            </p:grpSpPr>
            <p:sp>
              <p:nvSpPr>
                <p:cNvPr id="185" name="Rectangle 9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6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19"/>
              <p:cNvGrpSpPr/>
              <p:nvPr/>
            </p:nvGrpSpPr>
            <p:grpSpPr>
              <a:xfrm>
                <a:off x="5175360" y="1604880"/>
                <a:ext cx="1068480" cy="274680"/>
                <a:chOff x="5175360" y="1604880"/>
                <a:chExt cx="1068480" cy="274680"/>
              </a:xfrm>
            </p:grpSpPr>
            <p:sp>
              <p:nvSpPr>
                <p:cNvPr id="188" name="Rectangle 10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8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21"/>
              <p:cNvGrpSpPr/>
              <p:nvPr/>
            </p:nvGrpSpPr>
            <p:grpSpPr>
              <a:xfrm>
                <a:off x="2824200" y="1879560"/>
                <a:ext cx="1192320" cy="274680"/>
                <a:chOff x="2824200" y="1879560"/>
                <a:chExt cx="1192320" cy="274680"/>
              </a:xfrm>
            </p:grpSpPr>
            <p:sp>
              <p:nvSpPr>
                <p:cNvPr id="191" name="Rectangle 11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20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23"/>
              <p:cNvGrpSpPr/>
              <p:nvPr/>
            </p:nvGrpSpPr>
            <p:grpSpPr>
              <a:xfrm>
                <a:off x="4016520" y="1879560"/>
                <a:ext cx="1158840" cy="274680"/>
                <a:chOff x="4016520" y="1879560"/>
                <a:chExt cx="1158840" cy="274680"/>
              </a:xfrm>
            </p:grpSpPr>
            <p:sp>
              <p:nvSpPr>
                <p:cNvPr id="194" name="Rectangle 1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trochee ( /~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2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25"/>
              <p:cNvGrpSpPr/>
              <p:nvPr/>
            </p:nvGrpSpPr>
            <p:grpSpPr>
              <a:xfrm>
                <a:off x="5175360" y="1879560"/>
                <a:ext cx="1068480" cy="274680"/>
                <a:chOff x="5175360" y="1879560"/>
                <a:chExt cx="1068480" cy="274680"/>
              </a:xfrm>
            </p:grpSpPr>
            <p:sp>
              <p:nvSpPr>
                <p:cNvPr id="197" name="Rectangle 13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24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Rectangle 27"/>
            <p:cNvSpPr/>
            <p:nvPr/>
          </p:nvSpPr>
          <p:spPr>
            <a:xfrm>
              <a:off x="2819520" y="160020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tourist attr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osicrucian Park, an Egyptian muesum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Seems very happy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81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taphor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e trickle of the fountain spray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at sway and dance upon the breez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tle is the location.  The poem explains the mood at the attractio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poem describes the feeling at the museum.  It talks about the environment and what can be see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Owner</cp:lastModifiedBy>
  <dcterms:modified xsi:type="dcterms:W3CDTF">2010-02-23T01:09:21Z</dcterms:modified>
  <cp:revision>16</cp:revision>
  <dc:subject/>
  <dc:title>Title of Poem</dc:title>
</cp:coreProperties>
</file>