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EF0-235B-4EE3-988C-E1FB9E9D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B3D-0CB6-4DB4-A9E2-8F6104DC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018-BAE8-4363-B58C-264BAE22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15A-C7BE-48CB-BE20-9B9949EB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E6B32-3B2B-48EA-AF1E-A2DF2EC9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84FFE-853A-4CA7-B8D8-DD0042CC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9F864-4429-43B8-8C45-63E06192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ACFD3-8CD4-4539-81F7-CC90F483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177B5-E59B-474B-BFFC-E61BB3F7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2EC4E-0B18-41F3-960C-D62C9CBC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1B17A-7A28-43E6-A548-8417A338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4F5-2052-4A48-B608-C958C74A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48F58-7934-465D-A4C3-C565449F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502F0-14E4-4CA6-8339-4F9960B3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574D7-138E-48AD-8A7E-F9233007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EB261-C5C1-46D5-9E40-D92F90FA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635AD-C9B1-45CA-9D5A-3E71E7A3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DDE9-1BA1-4EBC-8958-A6B751A9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5D4CA-EFF6-40C5-975C-09EA05FD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89126-7E35-414E-B927-766B919A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A319-3AE6-478B-9F8E-0395A686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D016-C5BD-47D7-BF3E-18A16903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E8D-2D3A-41FA-B6B8-6B705494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0496-DFC9-4BF8-8382-1FB7DF0E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3EA39-A9F1-49A3-B1B9-747353EB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D1121-C503-4FAE-ADBD-1CFD993D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4F691-DB75-46EE-A2E1-ACF44A07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DD6B8-2B80-4FBB-94D8-6BFB6719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7FE4F-A03C-4F14-B202-CC057066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6838-5F9A-4AC8-9D39-5D866D77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6FBE0F-D379-4A6A-9E33-0662787A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B53E25-D31E-4232-BC64-02472DC4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B1651D-1A69-48A0-AE20-8C35FCA2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BF5-EAF1-4113-A02C-55730E63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47AE5B-657E-436A-A2AA-2869A33C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DB8DC-4F41-4310-9907-C0EA65D2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D28F2-4ECE-468F-931E-651B573C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4CA618-A85F-4AFF-946B-AF0B07F9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F77F8F-8750-4026-940E-067C9C84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E10D62-1CDA-4867-9449-6895375B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21A532-A87D-4415-A29A-0BE3E4D7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39B334-CCE9-487B-B9E4-FA5D1223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58B7DE-74EC-4C58-91FE-54521E19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E1E-AB93-4721-AA2F-AFE864A4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6D4-CF92-4229-A048-D1401491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D75-DF4A-40D7-84A3-B1D11030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D13-CD76-402A-A6C5-D52A5386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576-31B6-4550-B3E3-4A9C9A5E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10E7-7C82-44C5-A07F-A05EB36D8A2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6E2F-E96F-48C6-A451-1312278641B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BC58-8A7C-4849-A9B6-2FF6B2E097DE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FC9B-C2FC-4FAC-B2D6-1F507C0D54D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lifestreamcenter.net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efac9"/>
                </a:solidFill>
                <a:latin typeface="Constantia"/>
              </a:rPr>
              <a:t>Carolyn Odom Burles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755640" y="2279520"/>
            <a:ext cx="7785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http://www.lifestreamcenter.ne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he has been an educator since 1965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he has taught adult classes and creative writing workshop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Saima Pradha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785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crackling of the fire,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aroma of the cookies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excitement of the tre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 it is surrounded by the pres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 cheerful children and the spirit of the holida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ongs play a jolly tune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 the wind dances with the snow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night will come to an end soon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ut the memories will never fade.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0168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43000" y="533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ed by: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ima Pradh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066680" y="1981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bliography: http://www.lifestreamcenter.net/whispers/index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Vibrations from the warm sun ray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trickle of the fountain spray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beauty of the skyward tree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cool refreshing summer breeze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color of the roses re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n airplane flying overhea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sound of crickets in the groun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 cactus set upon the moun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chirping of the many bird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nd conversations overhear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 pigeon perched upon a rock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Just flew away to find his flock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soror sitting next to me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With pen and paper on her knee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 fratre working on his play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 family come to spend the day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fingers of the great palm leave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at sway and dance upon the breeze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Egyptian columns standing tall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nd hieroglyphics on the wall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Sphinx, he sits majestically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Guarding the university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nd COSMIC LOVE pervades the air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OOOM, I feel it everywhere!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1026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pe of Poem: Od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yle of verse: Rhyming ver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23619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en-US" sz="800" spc="-1" strike="noStrike">
                <a:solidFill>
                  <a:srgbClr val="ffffff"/>
                </a:solidFill>
                <a:latin typeface="Constantia"/>
              </a:rPr>
              <a:t>trochee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Vibrations from the warm sun ray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The trickle of the fountain spray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The beauty of the skyward tree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The cool refreshing summer breez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Group 28"/>
          <p:cNvGrpSpPr/>
          <p:nvPr/>
        </p:nvGrpSpPr>
        <p:grpSpPr>
          <a:xfrm>
            <a:off x="2819520" y="1600200"/>
            <a:ext cx="3429000" cy="558720"/>
            <a:chOff x="2819520" y="1600200"/>
            <a:chExt cx="3429000" cy="558720"/>
          </a:xfrm>
        </p:grpSpPr>
        <p:grpSp>
          <p:nvGrpSpPr>
            <p:cNvPr id="180" name="Group 26"/>
            <p:cNvGrpSpPr/>
            <p:nvPr/>
          </p:nvGrpSpPr>
          <p:grpSpPr>
            <a:xfrm>
              <a:off x="2824200" y="1604880"/>
              <a:ext cx="3419640" cy="549360"/>
              <a:chOff x="2824200" y="1604880"/>
              <a:chExt cx="3419640" cy="549360"/>
            </a:xfrm>
          </p:grpSpPr>
          <p:grpSp>
            <p:nvGrpSpPr>
              <p:cNvPr id="181" name="Group 15"/>
              <p:cNvGrpSpPr/>
              <p:nvPr/>
            </p:nvGrpSpPr>
            <p:grpSpPr>
              <a:xfrm>
                <a:off x="2824200" y="1604880"/>
                <a:ext cx="1192320" cy="274680"/>
                <a:chOff x="2824200" y="1604880"/>
                <a:chExt cx="1192320" cy="274680"/>
              </a:xfrm>
            </p:grpSpPr>
            <p:sp>
              <p:nvSpPr>
                <p:cNvPr id="182" name="Rectangle 8"/>
                <p:cNvSpPr/>
                <p:nvPr/>
              </p:nvSpPr>
              <p:spPr>
                <a:xfrm>
                  <a:off x="2824200" y="1604880"/>
                  <a:ext cx="1192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anapest (~~/ 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4"/>
                <p:cNvSpPr/>
                <p:nvPr/>
              </p:nvSpPr>
              <p:spPr>
                <a:xfrm>
                  <a:off x="2824200" y="1604880"/>
                  <a:ext cx="119232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Group 17"/>
              <p:cNvGrpSpPr/>
              <p:nvPr/>
            </p:nvGrpSpPr>
            <p:grpSpPr>
              <a:xfrm>
                <a:off x="4016520" y="1604880"/>
                <a:ext cx="1158840" cy="274680"/>
                <a:chOff x="4016520" y="1604880"/>
                <a:chExt cx="1158840" cy="274680"/>
              </a:xfrm>
            </p:grpSpPr>
            <p:sp>
              <p:nvSpPr>
                <p:cNvPr id="185" name="Rectangle 9"/>
                <p:cNvSpPr/>
                <p:nvPr/>
              </p:nvSpPr>
              <p:spPr>
                <a:xfrm>
                  <a:off x="4016520" y="1604880"/>
                  <a:ext cx="115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iamb ( ~/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6"/>
                <p:cNvSpPr/>
                <p:nvPr/>
              </p:nvSpPr>
              <p:spPr>
                <a:xfrm>
                  <a:off x="4016520" y="1604880"/>
                  <a:ext cx="11588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Group 19"/>
              <p:cNvGrpSpPr/>
              <p:nvPr/>
            </p:nvGrpSpPr>
            <p:grpSpPr>
              <a:xfrm>
                <a:off x="5175360" y="1604880"/>
                <a:ext cx="1068480" cy="274680"/>
                <a:chOff x="5175360" y="1604880"/>
                <a:chExt cx="1068480" cy="274680"/>
              </a:xfrm>
            </p:grpSpPr>
            <p:sp>
              <p:nvSpPr>
                <p:cNvPr id="188" name="Rectangle 10"/>
                <p:cNvSpPr/>
                <p:nvPr/>
              </p:nvSpPr>
              <p:spPr>
                <a:xfrm>
                  <a:off x="5175360" y="1604880"/>
                  <a:ext cx="1068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spondee (//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8"/>
                <p:cNvSpPr/>
                <p:nvPr/>
              </p:nvSpPr>
              <p:spPr>
                <a:xfrm>
                  <a:off x="5175360" y="1604880"/>
                  <a:ext cx="10684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Group 21"/>
              <p:cNvGrpSpPr/>
              <p:nvPr/>
            </p:nvGrpSpPr>
            <p:grpSpPr>
              <a:xfrm>
                <a:off x="2824200" y="1879560"/>
                <a:ext cx="1192320" cy="274680"/>
                <a:chOff x="2824200" y="1879560"/>
                <a:chExt cx="1192320" cy="274680"/>
              </a:xfrm>
            </p:grpSpPr>
            <p:sp>
              <p:nvSpPr>
                <p:cNvPr id="191" name="Rectangle 11"/>
                <p:cNvSpPr/>
                <p:nvPr/>
              </p:nvSpPr>
              <p:spPr>
                <a:xfrm>
                  <a:off x="2824200" y="1879560"/>
                  <a:ext cx="1192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dactyl ( /~~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20"/>
                <p:cNvSpPr/>
                <p:nvPr/>
              </p:nvSpPr>
              <p:spPr>
                <a:xfrm>
                  <a:off x="2824200" y="1879560"/>
                  <a:ext cx="119232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Group 23"/>
              <p:cNvGrpSpPr/>
              <p:nvPr/>
            </p:nvGrpSpPr>
            <p:grpSpPr>
              <a:xfrm>
                <a:off x="4016520" y="1879560"/>
                <a:ext cx="1158840" cy="274680"/>
                <a:chOff x="4016520" y="1879560"/>
                <a:chExt cx="1158840" cy="274680"/>
              </a:xfrm>
            </p:grpSpPr>
            <p:sp>
              <p:nvSpPr>
                <p:cNvPr id="194" name="Rectangle 12"/>
                <p:cNvSpPr/>
                <p:nvPr/>
              </p:nvSpPr>
              <p:spPr>
                <a:xfrm>
                  <a:off x="4016520" y="1879560"/>
                  <a:ext cx="115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trochee ( /~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22"/>
                <p:cNvSpPr/>
                <p:nvPr/>
              </p:nvSpPr>
              <p:spPr>
                <a:xfrm>
                  <a:off x="4016520" y="1879560"/>
                  <a:ext cx="11588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Group 25"/>
              <p:cNvGrpSpPr/>
              <p:nvPr/>
            </p:nvGrpSpPr>
            <p:grpSpPr>
              <a:xfrm>
                <a:off x="5175360" y="1879560"/>
                <a:ext cx="1068480" cy="274680"/>
                <a:chOff x="5175360" y="1879560"/>
                <a:chExt cx="1068480" cy="274680"/>
              </a:xfrm>
            </p:grpSpPr>
            <p:sp>
              <p:nvSpPr>
                <p:cNvPr id="197" name="Rectangle 13"/>
                <p:cNvSpPr/>
                <p:nvPr/>
              </p:nvSpPr>
              <p:spPr>
                <a:xfrm>
                  <a:off x="5175360" y="1879560"/>
                  <a:ext cx="1068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24"/>
                <p:cNvSpPr/>
                <p:nvPr/>
              </p:nvSpPr>
              <p:spPr>
                <a:xfrm>
                  <a:off x="5175360" y="1879560"/>
                  <a:ext cx="10684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Rectangle 27"/>
            <p:cNvSpPr/>
            <p:nvPr/>
          </p:nvSpPr>
          <p:spPr>
            <a:xfrm>
              <a:off x="2819520" y="1600200"/>
              <a:ext cx="3429000" cy="558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tourist attra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osicrucian Park, an Egyptian muesum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The fingers of the great palm leaves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That sway and dance upon the breez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Seems very happy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4181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etaphor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The trickle of the fountain spray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That sway and dance upon the breez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title is the location.  The poem explains the mood at the attraction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poem describes the feeling at the museum.  It talks about the environment and what can be seen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5:51:51Z</dcterms:created>
  <dc:creator>Lincoln High School</dc:creator>
  <dc:description/>
  <dc:language>en-US</dc:language>
  <cp:lastModifiedBy>Owner</cp:lastModifiedBy>
  <dcterms:modified xsi:type="dcterms:W3CDTF">2010-02-23T01:09:21Z</dcterms:modified>
  <cp:revision>16</cp:revision>
  <dc:subject/>
  <dc:title>Title of Poem</dc:title>
</cp:coreProperties>
</file>