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EC58-59C4-44D0-AEE9-CE92D5239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6C4A-9192-46A6-9B04-88E32135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9BD9-7807-4975-BC82-73F22300C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9F26-9E9C-4DA9-A5FF-0E7D8C214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7EE2F7-AE03-43F2-9CAC-DD8276572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433523-9F08-4B4C-AE17-396FF321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C7741-A27D-4FAA-B467-7895CEEF7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247173-C304-4703-A039-F1A29401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017015-A449-4E0C-AE2E-E1607153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DE579-9865-4D5B-A0DF-4642149E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FE292D-58BC-48C5-934F-8F77201ED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A6F1-FEFC-4B2A-853D-E452C504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0A0641-5EF6-4B00-A7E4-844F578B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01EB31-E664-44DC-ACD2-0677A154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F574B-66EE-458A-B5D4-18095A2E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BB179A-6435-47DD-87B1-E7164CC8E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634F1-DF80-420F-B510-6666CD2F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6C44D-B512-4D45-8A9D-1F57332F6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39D63-8D2B-4795-BEBB-074CE0EE9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D48A1-F09B-4CB7-9699-1CB19826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F4B16-28CC-4DDE-AA2B-580033311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8934D-BDBB-46E1-AC3F-A5721CBF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ADC-7003-4A92-B13A-7088324EF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8DC5A-E8C1-4BD1-9DF8-B40629BEF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04350-A925-4DC4-8D25-3F1A5D3B5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E2799-0D55-4798-A518-D4E5EA4D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EAD71-8FD5-466F-9441-E6F0A4E7C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77A5C0-22CB-4169-BA15-0DF27BEF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9CDFD-C3FF-4A53-AAED-5F93879BC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F73E3-87F6-44C0-8801-DE8F7009A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3EE73C-8396-4D87-B8DC-A0AEA5C1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C9577D-200C-4072-8393-9353B8AF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B566EF-D528-483D-AA70-65360985F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748-7A29-4DF5-867A-9C603843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6CDE52-1EF0-49B4-BE78-D7E7C199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B760CD-EB91-4964-BB37-3A589EA4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77D8AC-DFFA-4176-B336-4EF63CA09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A18ACB-E65D-4425-9B87-4C48C7BF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1309C9-47E1-4CA9-A10D-559873910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0284C9-62C4-42F2-B743-F52708A6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70D22F-5885-4608-AD89-E54005BA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692976-3C2F-42E8-A5CA-D35A474D0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C9DF70-44ED-4C9A-8561-C8359DAF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5504-BCF0-4EFF-BB01-C84A98AF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12E6-A2D7-497F-9591-D1C9743D3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BC40-02CB-499D-87D3-C61325F5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1588-32E6-4293-85EF-65C57771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9A6-F13E-41D0-93D7-28B35EFEE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EA32-06CC-4685-AD1B-B97227AB948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D7E27-04CE-486D-9FB9-99F9C3B0E4D2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D7192-414F-4191-99D6-A40018AFBA12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96AE7-5C6C-4CB4-AD71-0B6B8C99404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lifestreamcenter.net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efac9"/>
                </a:solidFill>
                <a:latin typeface="Constantia"/>
              </a:rPr>
              <a:t>Carolyn Odom Burleso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1" name="Rectangle 2" descr=""/>
          <p:cNvPicPr/>
          <p:nvPr/>
        </p:nvPicPr>
        <p:blipFill>
          <a:blip r:embed="rId1"/>
          <a:stretch/>
        </p:blipFill>
        <p:spPr>
          <a:xfrm>
            <a:off x="755640" y="2279520"/>
            <a:ext cx="7785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8e58b6"/>
                </a:solidFill>
                <a:uFillTx/>
                <a:latin typeface="Constantia"/>
                <a:hlinkClick r:id="rId2"/>
              </a:rPr>
              <a:t>http://www.lifestreamcenter.net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he has been an educator since 1965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She has taught adult classes and creative writing workshops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B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efac9"/>
                </a:solidFill>
                <a:latin typeface="Constantia"/>
              </a:rPr>
              <a:t>Saima Pradhan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Rectangle 2" descr=""/>
          <p:cNvPicPr/>
          <p:nvPr/>
        </p:nvPicPr>
        <p:blipFill>
          <a:blip r:embed="rId1"/>
          <a:stretch/>
        </p:blipFill>
        <p:spPr>
          <a:xfrm>
            <a:off x="682560" y="2279520"/>
            <a:ext cx="7785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crackling of the fire,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aroma of the cookies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excitement of the tre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 it is surrounded by the presents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 cheerful children and the spirit of the holiday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songs play a jolly tune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s the wind dances with the snow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e night will come to an end soon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61720" indent="-2617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ut the memories will never fade.  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Rectangle 2" descr=""/>
          <p:cNvPicPr/>
          <p:nvPr/>
        </p:nvPicPr>
        <p:blipFill>
          <a:blip r:embed="rId1"/>
          <a:stretch/>
        </p:blipFill>
        <p:spPr>
          <a:xfrm>
            <a:off x="450720" y="530280"/>
            <a:ext cx="80168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1143000" y="53352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ed by: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ima Pradh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1066680" y="19810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bliography: http://www.lifestreamcenter.net/whispers/index.h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Vibrations from the warm sun rays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trickle of the fountain sprays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beauty of the skyward trees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cool refreshing summer breeze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color of the roses red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n airplane flying overhead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sound of crickets in the ground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 cactus set upon the mound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chirping of the many birds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nd conversations overheard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 pigeon perched upon a rock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Just flew away to find his flock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soror sitting next to me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With pen and paper on her knee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 fratre working on his play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 family come to spend the day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fingers of the great palm leaves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at sway and dance upon the breeze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Egyptian columns standing tall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nd hieroglyphics on the wall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The Sphinx, he sits majestically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Guarding the university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And COSMIC LOVE pervades the air</a:t>
            </a:r>
            <a:r>
              <a:rPr b="0" lang="en-US" sz="13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1300"/>
            </a:br>
            <a:r>
              <a:rPr b="0" i="1" lang="en-US" sz="1300" spc="-1" strike="noStrike">
                <a:solidFill>
                  <a:srgbClr val="ffffff"/>
                </a:solidFill>
                <a:latin typeface="Constantia"/>
              </a:rPr>
              <a:t>OOOM, I feel it everywhere!</a:t>
            </a: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Rectangle 1026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ype of Poem: Od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tyle of verse: Rhyming verse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5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440" y="2361960"/>
            <a:ext cx="76201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i="1" lang="en-US" sz="800" spc="-1" strike="noStrike">
                <a:solidFill>
                  <a:srgbClr val="ffffff"/>
                </a:solidFill>
                <a:latin typeface="Constantia"/>
              </a:rPr>
              <a:t>trochee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Vibrations from the warm sun rays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The trickle of the fountain sprays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The beauty of the skyward trees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ffffff"/>
                </a:solidFill>
                <a:latin typeface="Constantia"/>
              </a:rPr>
              <a:t>The cool refreshing summer breeze</a:t>
            </a:r>
            <a:r>
              <a:rPr b="0" lang="en-US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315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9" name="Group 28"/>
          <p:cNvGrpSpPr/>
          <p:nvPr/>
        </p:nvGrpSpPr>
        <p:grpSpPr>
          <a:xfrm>
            <a:off x="2819520" y="1600200"/>
            <a:ext cx="3429000" cy="558720"/>
            <a:chOff x="2819520" y="1600200"/>
            <a:chExt cx="3429000" cy="558720"/>
          </a:xfrm>
        </p:grpSpPr>
        <p:grpSp>
          <p:nvGrpSpPr>
            <p:cNvPr id="180" name="Group 26"/>
            <p:cNvGrpSpPr/>
            <p:nvPr/>
          </p:nvGrpSpPr>
          <p:grpSpPr>
            <a:xfrm>
              <a:off x="2824200" y="1604880"/>
              <a:ext cx="3419640" cy="549360"/>
              <a:chOff x="2824200" y="1604880"/>
              <a:chExt cx="3419640" cy="549360"/>
            </a:xfrm>
          </p:grpSpPr>
          <p:grpSp>
            <p:nvGrpSpPr>
              <p:cNvPr id="181" name="Group 15"/>
              <p:cNvGrpSpPr/>
              <p:nvPr/>
            </p:nvGrpSpPr>
            <p:grpSpPr>
              <a:xfrm>
                <a:off x="2824200" y="1604880"/>
                <a:ext cx="1192320" cy="274680"/>
                <a:chOff x="2824200" y="1604880"/>
                <a:chExt cx="1192320" cy="274680"/>
              </a:xfrm>
            </p:grpSpPr>
            <p:sp>
              <p:nvSpPr>
                <p:cNvPr id="182" name="Rectangle 8"/>
                <p:cNvSpPr/>
                <p:nvPr/>
              </p:nvSpPr>
              <p:spPr>
                <a:xfrm>
                  <a:off x="2824200" y="1604880"/>
                  <a:ext cx="11923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anapest (~~/ 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Rectangle 14"/>
                <p:cNvSpPr/>
                <p:nvPr/>
              </p:nvSpPr>
              <p:spPr>
                <a:xfrm>
                  <a:off x="2824200" y="1604880"/>
                  <a:ext cx="119232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4" name="Group 17"/>
              <p:cNvGrpSpPr/>
              <p:nvPr/>
            </p:nvGrpSpPr>
            <p:grpSpPr>
              <a:xfrm>
                <a:off x="4016520" y="1604880"/>
                <a:ext cx="1158840" cy="274680"/>
                <a:chOff x="4016520" y="1604880"/>
                <a:chExt cx="1158840" cy="274680"/>
              </a:xfrm>
            </p:grpSpPr>
            <p:sp>
              <p:nvSpPr>
                <p:cNvPr id="185" name="Rectangle 9"/>
                <p:cNvSpPr/>
                <p:nvPr/>
              </p:nvSpPr>
              <p:spPr>
                <a:xfrm>
                  <a:off x="4016520" y="1604880"/>
                  <a:ext cx="1158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iamb ( ~/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Rectangle 16"/>
                <p:cNvSpPr/>
                <p:nvPr/>
              </p:nvSpPr>
              <p:spPr>
                <a:xfrm>
                  <a:off x="4016520" y="1604880"/>
                  <a:ext cx="11588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7" name="Group 19"/>
              <p:cNvGrpSpPr/>
              <p:nvPr/>
            </p:nvGrpSpPr>
            <p:grpSpPr>
              <a:xfrm>
                <a:off x="5175360" y="1604880"/>
                <a:ext cx="1068480" cy="274680"/>
                <a:chOff x="5175360" y="1604880"/>
                <a:chExt cx="1068480" cy="274680"/>
              </a:xfrm>
            </p:grpSpPr>
            <p:sp>
              <p:nvSpPr>
                <p:cNvPr id="188" name="Rectangle 10"/>
                <p:cNvSpPr/>
                <p:nvPr/>
              </p:nvSpPr>
              <p:spPr>
                <a:xfrm>
                  <a:off x="5175360" y="1604880"/>
                  <a:ext cx="10684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spondee (//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Rectangle 18"/>
                <p:cNvSpPr/>
                <p:nvPr/>
              </p:nvSpPr>
              <p:spPr>
                <a:xfrm>
                  <a:off x="5175360" y="1604880"/>
                  <a:ext cx="10684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0" name="Group 21"/>
              <p:cNvGrpSpPr/>
              <p:nvPr/>
            </p:nvGrpSpPr>
            <p:grpSpPr>
              <a:xfrm>
                <a:off x="2824200" y="1879560"/>
                <a:ext cx="1192320" cy="274680"/>
                <a:chOff x="2824200" y="1879560"/>
                <a:chExt cx="1192320" cy="274680"/>
              </a:xfrm>
            </p:grpSpPr>
            <p:sp>
              <p:nvSpPr>
                <p:cNvPr id="191" name="Rectangle 11"/>
                <p:cNvSpPr/>
                <p:nvPr/>
              </p:nvSpPr>
              <p:spPr>
                <a:xfrm>
                  <a:off x="2824200" y="1879560"/>
                  <a:ext cx="119232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dactyl ( /~~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Rectangle 20"/>
                <p:cNvSpPr/>
                <p:nvPr/>
              </p:nvSpPr>
              <p:spPr>
                <a:xfrm>
                  <a:off x="2824200" y="1879560"/>
                  <a:ext cx="119232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3" name="Group 23"/>
              <p:cNvGrpSpPr/>
              <p:nvPr/>
            </p:nvGrpSpPr>
            <p:grpSpPr>
              <a:xfrm>
                <a:off x="4016520" y="1879560"/>
                <a:ext cx="1158840" cy="274680"/>
                <a:chOff x="4016520" y="1879560"/>
                <a:chExt cx="1158840" cy="274680"/>
              </a:xfrm>
            </p:grpSpPr>
            <p:sp>
              <p:nvSpPr>
                <p:cNvPr id="194" name="Rectangle 12"/>
                <p:cNvSpPr/>
                <p:nvPr/>
              </p:nvSpPr>
              <p:spPr>
                <a:xfrm>
                  <a:off x="4016520" y="1879560"/>
                  <a:ext cx="115884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trochee ( /~ </a:t>
                  </a:r>
                  <a:r>
                    <a:rPr b="0" lang="en-US" sz="1200" spc="-1" strike="noStrike">
                      <a:solidFill>
                        <a:srgbClr val="ffffff"/>
                      </a:solidFill>
                      <a:latin typeface="Comic Sans MS"/>
                    </a:rPr>
                    <a:t>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Rectangle 22"/>
                <p:cNvSpPr/>
                <p:nvPr/>
              </p:nvSpPr>
              <p:spPr>
                <a:xfrm>
                  <a:off x="4016520" y="1879560"/>
                  <a:ext cx="115884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Group 25"/>
              <p:cNvGrpSpPr/>
              <p:nvPr/>
            </p:nvGrpSpPr>
            <p:grpSpPr>
              <a:xfrm>
                <a:off x="5175360" y="1879560"/>
                <a:ext cx="1068480" cy="274680"/>
                <a:chOff x="5175360" y="1879560"/>
                <a:chExt cx="1068480" cy="274680"/>
              </a:xfrm>
            </p:grpSpPr>
            <p:sp>
              <p:nvSpPr>
                <p:cNvPr id="197" name="Rectangle 13"/>
                <p:cNvSpPr/>
                <p:nvPr/>
              </p:nvSpPr>
              <p:spPr>
                <a:xfrm>
                  <a:off x="5175360" y="1879560"/>
                  <a:ext cx="1068480" cy="27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Rectangle 24"/>
                <p:cNvSpPr/>
                <p:nvPr/>
              </p:nvSpPr>
              <p:spPr>
                <a:xfrm>
                  <a:off x="5175360" y="1879560"/>
                  <a:ext cx="1068480" cy="27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99" name="Rectangle 27"/>
            <p:cNvSpPr/>
            <p:nvPr/>
          </p:nvSpPr>
          <p:spPr>
            <a:xfrm>
              <a:off x="2819520" y="1600200"/>
              <a:ext cx="3429000" cy="558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 tourist attraction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ac9"/>
                </a:solidFill>
                <a:latin typeface="Constantia"/>
              </a:rPr>
              <a:t>Rosicrucian Park, an Egyptian muesum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01" name="Rectangle 2" descr=""/>
          <p:cNvPicPr/>
          <p:nvPr/>
        </p:nvPicPr>
        <p:blipFill>
          <a:blip r:embed="rId1"/>
          <a:stretch/>
        </p:blipFill>
        <p:spPr>
          <a:xfrm>
            <a:off x="219240" y="146160"/>
            <a:ext cx="847404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The fingers of the great palm leaves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Constantia"/>
              </a:rPr>
              <a:t>That sway and dance upon the breeze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fac9"/>
                </a:solidFill>
                <a:latin typeface="Constantia"/>
              </a:rPr>
              <a:t>Seems very happy 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3"/>
          <a:stretch/>
        </p:blipFill>
        <p:spPr>
          <a:xfrm>
            <a:off x="4724280" y="1981080"/>
            <a:ext cx="41817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09480" y="182844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Metaphors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fac9"/>
                </a:solidFill>
                <a:latin typeface="Constantia"/>
              </a:rPr>
              <a:t>The trickle of the fountain sprays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efac9"/>
                </a:solidFill>
                <a:latin typeface="Constantia"/>
              </a:rPr>
              <a:t>That sway and dance upon the breeze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title is the location.  The poem explains the mood at the attraction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Rectangle 2" descr=""/>
          <p:cNvPicPr/>
          <p:nvPr/>
        </p:nvPicPr>
        <p:blipFill>
          <a:blip r:embed="rId1"/>
          <a:stretch/>
        </p:blipFill>
        <p:spPr>
          <a:xfrm>
            <a:off x="450720" y="603360"/>
            <a:ext cx="8016840" cy="115884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e poem describes the feeling at the museum.  It talks about the environment and what can be seen.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5T15:51:51Z</dcterms:created>
  <dc:creator>Lincoln High School</dc:creator>
  <dc:description/>
  <dc:language>en-US</dc:language>
  <cp:lastModifiedBy>Owner</cp:lastModifiedBy>
  <dcterms:modified xsi:type="dcterms:W3CDTF">2010-02-23T01:09:21Z</dcterms:modified>
  <cp:revision>16</cp:revision>
  <dc:subject/>
  <dc:title>Title of Poem</dc:title>
</cp:coreProperties>
</file>